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D6E-4EFE-4686-B125-7252BC58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255-3412-465B-AB66-60A0B21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D41-7E41-4645-8A90-513DA131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193-7294-4645-8EB9-E3057C3D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B25F-96EF-4738-BCDE-D35B3F1E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F128-255F-4487-A20E-C7165A8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28C3-2276-4090-A7FB-8ABD8E25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D494-FCE9-47EB-A74C-7EFA8B76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76A-AB77-471D-B4E6-8F61D5C7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73A-6D66-42EC-8F80-7FE6472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0A3-B216-4337-A1DE-73FDE10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FE7-FDBF-47F9-88C2-C70FE9F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D9BA-1E37-4FFF-8A3A-2AA52E8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748D-AA33-416D-A73C-9ED2FCC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48F2-FEE0-4D91-88B8-69AFB7F1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9B52-739C-476A-B7CE-587EB90B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2015-0D37-4A97-9F12-846147CE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BC3-C992-4861-8168-CF491E2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4ED-B155-4ECB-A3B1-BA6D56B9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312-86F8-42B7-BF94-C451B70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7B8-56CA-4EE2-882A-A2A259D6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F22-9768-48BD-B850-274CF84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680-0F9F-44FB-A147-AC6FE517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179-EE52-4C51-98A9-274630C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605-3295-4B7D-9F0F-D871327EB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3D4-C70A-4B55-A489-659269EC5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Rutina</a:t>
            </a:r>
            <a:br>
              <a:rPr sz="5400"/>
            </a:b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Langost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Patrick Kl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333960" cy="27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91120" y="3505320"/>
            <a:ext cx="4343400" cy="296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El Langosta es acostar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acues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las once de la noc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uerme ensegu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6576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tomar una duch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ry toma una ducha. El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muchacho se lava el pelo. No se lava el pelo ho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852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navaj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ry e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 afeit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 afeita con la navaj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38480" y="3733920"/>
            <a:ext cx="2330640" cy="2552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rot="3234600">
            <a:off x="3808800" y="5258880"/>
            <a:ext cx="914400" cy="60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590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los dient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cepilla(se lava ) los d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257280" cy="335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3726000">
            <a:off x="2926080" y="4617000"/>
            <a:ext cx="761760" cy="366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rry toma el desayu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r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sienta a la me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oma el desayuno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esayu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325764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990720" cy="59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2:17Z</dcterms:created>
  <dc:creator>kleinpat</dc:creator>
  <dc:description/>
  <dc:language>en-US</dc:language>
  <cp:lastModifiedBy>kleinpat</cp:lastModifiedBy>
  <dcterms:modified xsi:type="dcterms:W3CDTF">2012-04-05T15:39:16Z</dcterms:modified>
  <cp:revision>4</cp:revision>
  <dc:subject/>
  <dc:title>La Rutina</dc:title>
</cp:coreProperties>
</file>